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452-EC64-45AD-8E73-8D2B3596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9BA-410E-4B88-AC08-E51EF868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EFB-9359-4227-80E4-EA03060F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CF8-DABC-4996-AD05-B7AA8060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C0A-E4AF-4785-804F-1929CB3D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F44-7F35-424F-B699-FB8544A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004-EF5B-470D-A5C9-131D469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35B-F3BF-41CD-A0BA-493BDCB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5A1-F39D-457B-B32F-F698C187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3DC-F54C-497B-941C-D747A1E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193-5C6D-4C96-B870-D7B889D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54D-5C9C-45C0-B09D-1841C56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28D0-6218-4928-918C-356F498E2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0 Ja v Kristu život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 Kristu život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álej sily zdr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ch, úzkosť, sta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z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evný hrad j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obrý Pastier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ovce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sýti ich, nad nimi b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o ne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ťažký čierny mra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visí nad hlav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upieram svoj viery zra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k nebu s dôve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to šťastný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jím verným ochranc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ie som nikdy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54:35Z</dcterms:modified>
  <cp:revision>21</cp:revision>
  <dc:subject/>
  <dc:title>Je veľký náš Pán, on slávy je Kráľ Nech do všetkých strán  spev vrúcnych znie chvál.</dc:title>
</cp:coreProperties>
</file>